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6.wmf" ContentType="image/x-wmf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DA7D-45B5-4004-ACC5-AD9E43151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2306-CCA2-4F28-BEC6-023A75638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209E-C525-44B4-BC2B-A83E4372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43E3-B73A-496E-AC89-DCA5B7A7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380E-33AD-4974-A013-584C7994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4C3A-AA23-47B9-9580-16B77087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C34-75C7-4487-8F81-CBDC7175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40C7-C05A-44ED-BA44-4E872440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27EE-3B2B-43B7-8386-14282B0E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09E3-D7DB-4E6E-9F45-57958DD9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126-B870-447D-9C3E-928479B9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DBA7-03A6-4716-8AEC-1D168278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8CFB-4E0A-4486-B70A-0429CD73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70F-3AAF-4592-988B-45E00AB0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E256-E8CC-43D1-B82E-F200D157E06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47320" y="1447560"/>
            <a:ext cx="771516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6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FRICA RISING- 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ill Sans"/>
              </a:rPr>
              <a:t>Maize Based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0200" y="4302000"/>
            <a:ext cx="61642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right Jumbo, Swai Elirehema, Freddy Baijukya, Anthony Kimaro, Zubeda Mduruma, Silvanus Mruma, Haroon Sseguya, Job Kihara, Fred Kizito, Chacha Watanga, Yangole, Einothy Laizer, Flavia, Elvis and many others ……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2633040" y="2939760"/>
            <a:ext cx="631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PMingLiU"/>
              </a:rPr>
              <a:t>Table 1. Names of districts and Villages selected for mother and baby demons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39760" y="1401840"/>
          <a:ext cx="8729640" cy="5218200"/>
        </p:xfrm>
        <a:graphic>
          <a:graphicData uri="http://schemas.openxmlformats.org/drawingml/2006/table">
            <a:tbl>
              <a:tblPr/>
              <a:tblGrid>
                <a:gridCol w="898560"/>
                <a:gridCol w="1003320"/>
                <a:gridCol w="841320"/>
                <a:gridCol w="1262160"/>
                <a:gridCol w="892080"/>
                <a:gridCol w="1023840"/>
                <a:gridCol w="1146240"/>
                <a:gridCol w="1063440"/>
                <a:gridCol w="598680"/>
              </a:tblGrid>
              <a:tr h="26064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b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ng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t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bo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ll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b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ya Kiba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urugu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ig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wado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eng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um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`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hin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i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hom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ti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ye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ll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'om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igu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gug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o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an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d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gara 'A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per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ufi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’uruh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a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yaman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u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ga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lole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ke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um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gan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mbi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ali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an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hi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uy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buru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i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a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n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dud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vill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259" name="Rectangle 98"/>
          <p:cNvSpPr/>
          <p:nvPr/>
        </p:nvSpPr>
        <p:spPr>
          <a:xfrm>
            <a:off x="468360" y="32832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ames of districts and Villages selected for mother and baby demonstrations in 20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392040" y="2666880"/>
          <a:ext cx="8501040" cy="3299040"/>
        </p:xfrm>
        <a:graphic>
          <a:graphicData uri="http://schemas.openxmlformats.org/drawingml/2006/table">
            <a:tbl>
              <a:tblPr/>
              <a:tblGrid>
                <a:gridCol w="1443240"/>
                <a:gridCol w="1346040"/>
                <a:gridCol w="895320"/>
                <a:gridCol w="1346400"/>
                <a:gridCol w="1004760"/>
                <a:gridCol w="1320840"/>
                <a:gridCol w="1144440"/>
              </a:tblGrid>
              <a:tr h="900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mother dem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mother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baby dem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baby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number dem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total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b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8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bo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</a:tr>
            </a:tbl>
          </a:graphicData>
        </a:graphic>
      </p:graphicFrame>
      <p:sp>
        <p:nvSpPr>
          <p:cNvPr id="261" name="Rectangle 1"/>
          <p:cNvSpPr/>
          <p:nvPr/>
        </p:nvSpPr>
        <p:spPr>
          <a:xfrm>
            <a:off x="316080" y="1556280"/>
            <a:ext cx="854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ther and baby demonstrations in the seven districts in 2016 vs targeted number of demos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74600" y="2125800"/>
          <a:ext cx="8707320" cy="3539880"/>
        </p:xfrm>
        <a:graphic>
          <a:graphicData uri="http://schemas.openxmlformats.org/drawingml/2006/table">
            <a:tbl>
              <a:tblPr/>
              <a:tblGrid>
                <a:gridCol w="1011240"/>
                <a:gridCol w="827280"/>
                <a:gridCol w="277560"/>
                <a:gridCol w="865440"/>
                <a:gridCol w="826920"/>
                <a:gridCol w="795240"/>
                <a:gridCol w="292320"/>
                <a:gridCol w="784080"/>
                <a:gridCol w="754200"/>
                <a:gridCol w="766800"/>
                <a:gridCol w="836280"/>
                <a:gridCol w="669960"/>
              </a:tblGrid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750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oth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oth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baby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numb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oth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baby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numb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g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o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inga Ru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8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</a:tbl>
          </a:graphicData>
        </a:graphic>
      </p:graphicFrame>
      <p:sp>
        <p:nvSpPr>
          <p:cNvPr id="263" name="Rectangle 1"/>
          <p:cNvSpPr/>
          <p:nvPr/>
        </p:nvSpPr>
        <p:spPr>
          <a:xfrm>
            <a:off x="316080" y="731520"/>
            <a:ext cx="854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ther and baby demonstrations across target districts in 2015, 2016 and 2017 and number of anticipated learners compared to 2017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11200" y="1317240"/>
            <a:ext cx="77724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11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eld Day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23720" y="2122560"/>
          <a:ext cx="8393400" cy="4083120"/>
        </p:xfrm>
        <a:graphic>
          <a:graphicData uri="http://schemas.openxmlformats.org/drawingml/2006/table">
            <a:tbl>
              <a:tblPr/>
              <a:tblGrid>
                <a:gridCol w="1094040"/>
                <a:gridCol w="876240"/>
                <a:gridCol w="876240"/>
                <a:gridCol w="876240"/>
                <a:gridCol w="874800"/>
                <a:gridCol w="291960"/>
                <a:gridCol w="876600"/>
                <a:gridCol w="876240"/>
                <a:gridCol w="874440"/>
                <a:gridCol w="876600"/>
              </a:tblGrid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fe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fe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41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g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2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o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,0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5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544680" y="13060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2" descr="E:\africa RISING 2017\photo for march aprl may 2017\100PHOTO\SAM_7396.JPG"/>
          <p:cNvPicPr/>
          <p:nvPr/>
        </p:nvPicPr>
        <p:blipFill>
          <a:blip r:embed="rId1"/>
          <a:stretch/>
        </p:blipFill>
        <p:spPr>
          <a:xfrm>
            <a:off x="6216480" y="1549440"/>
            <a:ext cx="2806920" cy="210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268" name=""/>
          <p:cNvGraphicFramePr/>
          <p:nvPr/>
        </p:nvGraphicFramePr>
        <p:xfrm>
          <a:off x="119160" y="2222640"/>
          <a:ext cx="5878440" cy="3396960"/>
        </p:xfrm>
        <a:graphic>
          <a:graphicData uri="http://schemas.openxmlformats.org/drawingml/2006/table">
            <a:tbl>
              <a:tblPr/>
              <a:tblGrid>
                <a:gridCol w="1076400"/>
                <a:gridCol w="609480"/>
                <a:gridCol w="687240"/>
                <a:gridCol w="824040"/>
                <a:gridCol w="206280"/>
                <a:gridCol w="825480"/>
                <a:gridCol w="824040"/>
                <a:gridCol w="82548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o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5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pic>
        <p:nvPicPr>
          <p:cNvPr id="269" name="Picture 4" descr="E:\DCIM\100PHOTO\SAM_4170.JPG"/>
          <p:cNvPicPr/>
          <p:nvPr/>
        </p:nvPicPr>
        <p:blipFill>
          <a:blip r:embed="rId2"/>
          <a:stretch/>
        </p:blipFill>
        <p:spPr>
          <a:xfrm>
            <a:off x="6167520" y="4111560"/>
            <a:ext cx="2855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76280" y="941040"/>
            <a:ext cx="82296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Arial Black"/>
              </a:rPr>
              <a:t>Planning Meetings and Field Days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71" name="Content Placeholder 3" descr="SAM_0861"/>
          <p:cNvPicPr/>
          <p:nvPr/>
        </p:nvPicPr>
        <p:blipFill>
          <a:blip r:embed="rId1"/>
          <a:stretch/>
        </p:blipFill>
        <p:spPr>
          <a:xfrm>
            <a:off x="6033960" y="1817640"/>
            <a:ext cx="2867040" cy="214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2" name="Picture 4" descr="E:\Field day picture\Riroda School\DSC02393.JPG"/>
          <p:cNvPicPr/>
          <p:nvPr/>
        </p:nvPicPr>
        <p:blipFill>
          <a:blip r:embed="rId2"/>
          <a:stretch/>
        </p:blipFill>
        <p:spPr>
          <a:xfrm>
            <a:off x="536400" y="1319040"/>
            <a:ext cx="3975120" cy="2791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C:\Users\bjumbo\Desktop\Field days Kilosa\DSC_1510.JPG"/>
          <p:cNvPicPr/>
          <p:nvPr/>
        </p:nvPicPr>
        <p:blipFill>
          <a:blip r:embed="rId3"/>
          <a:stretch/>
        </p:blipFill>
        <p:spPr>
          <a:xfrm>
            <a:off x="6296040" y="4267080"/>
            <a:ext cx="2739960" cy="2124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Description: C:\Users\EYSWAI\Desktop\NGIPA harvesting 2015\100PHOTO\SAM_0921.JPG"/>
          <p:cNvPicPr/>
          <p:nvPr/>
        </p:nvPicPr>
        <p:blipFill>
          <a:blip r:embed="rId4"/>
          <a:stretch/>
        </p:blipFill>
        <p:spPr>
          <a:xfrm>
            <a:off x="409680" y="4371840"/>
            <a:ext cx="4101840" cy="23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1200" y="142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Where did we do bes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287316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Successful establishment of demonstration plots across all target distri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Trai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Field d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44680" y="9475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 - Babati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78" name="Content Placeholder 3" descr=""/>
          <p:cNvPicPr/>
          <p:nvPr/>
        </p:nvPicPr>
        <p:blipFill>
          <a:blip r:embed="rId1"/>
          <a:stretch/>
        </p:blipFill>
        <p:spPr>
          <a:xfrm>
            <a:off x="1436760" y="1600200"/>
            <a:ext cx="6696000" cy="38638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1371600" y="5522760"/>
            <a:ext cx="74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ze grain yield observed under different varieties and treatments in mother demonstrations for three communities (Hallu, Ayamango and Orngadida) within the low altitude low rainfall agro-ecozone in Babati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- Kiteto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1447920" y="6045120"/>
            <a:ext cx="70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maize grain yields under baby plots at Kiteto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-Kongwa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84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4"/>
          <p:cNvSpPr/>
          <p:nvPr/>
        </p:nvSpPr>
        <p:spPr>
          <a:xfrm>
            <a:off x="1109520" y="60228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maize grain yields under baby plots in Kongwa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Placeholder 1"/>
          <p:cNvSpPr/>
          <p:nvPr/>
        </p:nvSpPr>
        <p:spPr>
          <a:xfrm>
            <a:off x="314280" y="2543040"/>
            <a:ext cx="856296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CIMMYT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nternational Maize and Wheat Improvement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CIAT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nternational Centre for Tropical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CRAF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World Agroforestry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RI-Hombolo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gricultural Research Institute, Hombo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ITA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nternational Institute for Tropical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NAFAKA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Tanzania Staples Value Chain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MINATA Quality S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SARI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SELIAN agricultural Research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Meru Agro 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gricultural Extension. Ministry of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-Kilolo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87" name="Content Placeholder 3" descr=""/>
          <p:cNvPicPr/>
          <p:nvPr/>
        </p:nvPicPr>
        <p:blipFill>
          <a:blip r:embed="rId1"/>
          <a:stretch/>
        </p:blipFill>
        <p:spPr>
          <a:xfrm>
            <a:off x="457200" y="1163520"/>
            <a:ext cx="8229600" cy="4530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>
            <a:off x="1557360" y="5495760"/>
            <a:ext cx="714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ze response to various types of fertilizer at agronomic recommended rate and blanket rate in Mother Demonstrations in Kilolo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ilos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Chart 3" descr=""/>
          <p:cNvPicPr/>
          <p:nvPr/>
        </p:nvPicPr>
        <p:blipFill>
          <a:blip r:embed="rId1"/>
          <a:stretch/>
        </p:blipFill>
        <p:spPr>
          <a:xfrm>
            <a:off x="1785960" y="1305000"/>
            <a:ext cx="6553080" cy="39988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4"/>
          <p:cNvSpPr/>
          <p:nvPr/>
        </p:nvSpPr>
        <p:spPr>
          <a:xfrm>
            <a:off x="1938240" y="5580000"/>
            <a:ext cx="57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s of improved maize variety in the mother demonstration sites in Kilosa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85640" y="69336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Other output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95000" y="1247400"/>
            <a:ext cx="84582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tocols for setting up demonstration plots for groundnuts, maize, beans, and soybean were developed and are in us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ield maps and field books avail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FAKA agronomists have been trained on implementation of demonstrations and the protocols to be used for setting up demonstration plo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xtension staff have been tr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duction guide- These have been developed but need to be finalized together with NAFA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commending a stakeholder meeting that includes the Ministry of Agriculture to look at the draf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CT has been introduced in some project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7840" y="118116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Challeng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2257560"/>
            <a:ext cx="822960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e drought in Kongwa, Kiteto and baba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ect pests outbreak (Fall Armywor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ional challenges in sites where our partners such as NAFAKA are not pres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 this is addressed by engaging ex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ft of crops in the field (Mai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38120" y="703440"/>
            <a:ext cx="8229600" cy="6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uture Plan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ing more Trai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ish production gu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rvesting (collect dat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project has potential impacts but we need continued support to mature the 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028600" y="893520"/>
            <a:ext cx="668628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Acknowledgemen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000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AID for providing financial sup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our valued partners for their sup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0680" y="57132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3232"/>
                </a:solidFill>
                <a:latin typeface="Calibri"/>
              </a:rPr>
              <a:t>Summary description of Key Activities of Maize Based Systems Component</a:t>
            </a:r>
            <a:endParaRPr b="0" lang="en-US" sz="3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14000" y="1858680"/>
            <a:ext cx="494172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improved crop varieties (maize, beans, groundnuts, soybean) to improve crop productivity in target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seminate best bet agronomic management options to enhance crop productivity in target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e land, soil and water conservation technologies for sustainable use of land, soil and water in project sit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 empower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3" descr="Maze photo.jpg"/>
          <p:cNvPicPr/>
          <p:nvPr/>
        </p:nvPicPr>
        <p:blipFill>
          <a:blip r:embed="rId1"/>
          <a:stretch/>
        </p:blipFill>
        <p:spPr>
          <a:xfrm>
            <a:off x="5562720" y="1569960"/>
            <a:ext cx="3483000" cy="2054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:\Users\user\Desktop\URGEST090315\Kongwa Mand E_09032015\touse\groundnut\vihingo\Farmers marvel atgrowthdiffoptioins.JPG"/>
          <p:cNvPicPr/>
          <p:nvPr/>
        </p:nvPicPr>
        <p:blipFill>
          <a:blip r:embed="rId2"/>
          <a:stretch/>
        </p:blipFill>
        <p:spPr>
          <a:xfrm>
            <a:off x="5562720" y="3973680"/>
            <a:ext cx="34830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ill Sans"/>
              </a:rPr>
              <a:t>Core Activities</a:t>
            </a:r>
            <a:endParaRPr b="0" lang="en-US" sz="3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2" name="Title 1"/>
          <p:cNvSpPr/>
          <p:nvPr/>
        </p:nvSpPr>
        <p:spPr>
          <a:xfrm>
            <a:off x="409680" y="2448000"/>
            <a:ext cx="761976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Introduce and promote improved varie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Maize, groundnuts, Soybean and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Demonstrate the performance of organic and inorganic fertilizer in maize and legu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Demonstrate improved maize and legume varieties under good agronomic managemen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Demonstrate appropriate in-situ soil and water conservation measures  i.e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ontour and </a:t>
            </a: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tie ri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</a:rPr>
              <a:t>Demonstrate appropriate water harvesting and irrigation o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0120" y="9316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libri"/>
              </a:rPr>
              <a:t>Table 1. Maize Varieties planted at various sit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52440" y="1609560"/>
          <a:ext cx="8582040" cy="4938840"/>
        </p:xfrm>
        <a:graphic>
          <a:graphicData uri="http://schemas.openxmlformats.org/drawingml/2006/table">
            <a:tbl>
              <a:tblPr/>
              <a:tblGrid>
                <a:gridCol w="600120"/>
                <a:gridCol w="1836720"/>
                <a:gridCol w="1947960"/>
                <a:gridCol w="1233360"/>
                <a:gridCol w="1658880"/>
                <a:gridCol w="1305000"/>
              </a:tblGrid>
              <a:tr h="10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ar Rele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tu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ield pot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t/h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 H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S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- 13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8 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H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A A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- 13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3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N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nS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H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A A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- 13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3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904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 H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N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mediate (110 t0 120 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 H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N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medi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60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 K6Q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N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ly (90 to 110 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MS H9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M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-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 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6620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UHB513** Low N, DT var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U A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-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0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38120" y="140760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libri"/>
              </a:rPr>
              <a:t>Table 2. Legumes planted at various sit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8600" y="2143080"/>
          <a:ext cx="4886280" cy="1920960"/>
        </p:xfrm>
        <a:graphic>
          <a:graphicData uri="http://schemas.openxmlformats.org/drawingml/2006/table">
            <a:tbl>
              <a:tblPr/>
              <a:tblGrid>
                <a:gridCol w="1752480"/>
                <a:gridCol w="1819440"/>
                <a:gridCol w="131436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oundnu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yb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s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e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na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yole Nj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jano S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pic>
        <p:nvPicPr>
          <p:cNvPr id="247" name="Picture 25" descr=""/>
          <p:cNvPicPr/>
          <p:nvPr/>
        </p:nvPicPr>
        <p:blipFill>
          <a:blip r:embed="rId1"/>
          <a:stretch/>
        </p:blipFill>
        <p:spPr>
          <a:xfrm>
            <a:off x="5153040" y="2190600"/>
            <a:ext cx="3753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434880" y="2308320"/>
          <a:ext cx="8502840" cy="4365360"/>
        </p:xfrm>
        <a:graphic>
          <a:graphicData uri="http://schemas.openxmlformats.org/drawingml/2006/table">
            <a:tbl>
              <a:tblPr/>
              <a:tblGrid>
                <a:gridCol w="1376280"/>
                <a:gridCol w="2327400"/>
                <a:gridCol w="2212920"/>
                <a:gridCol w="1584360"/>
                <a:gridCol w="1001880"/>
              </a:tblGrid>
              <a:tr h="1287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umber of learners per 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II (Number of learners per distri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III (Number of learners per distri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8240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 (5 Lead farmers/district  x 25 lear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 (lead x 15 learn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 (1875 x 5 recru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207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49" name="Rectangle 1"/>
          <p:cNvSpPr/>
          <p:nvPr/>
        </p:nvSpPr>
        <p:spPr>
          <a:xfrm>
            <a:off x="566640" y="1670400"/>
            <a:ext cx="832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ill Sans MT"/>
              </a:rPr>
              <a:t>Table 1. Scaling plan from year 1 to year III for each distr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7760" y="1143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How would this plan work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25240" y="2068560"/>
            <a:ext cx="408132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24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ducting demonstration of selected technolog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ducting field day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ducting train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4" descr="Description: C:\Users\IITA-11\Desktop\pic.jpg"/>
          <p:cNvPicPr/>
          <p:nvPr/>
        </p:nvPicPr>
        <p:blipFill>
          <a:blip r:embed="rId1"/>
          <a:stretch/>
        </p:blipFill>
        <p:spPr>
          <a:xfrm>
            <a:off x="5410080" y="4278240"/>
            <a:ext cx="3487680" cy="2470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Description: C:\Users\USER\Desktop\iporoto and Haroon visits\101MSDCF\DSC04744.JPG"/>
          <p:cNvPicPr/>
          <p:nvPr/>
        </p:nvPicPr>
        <p:blipFill>
          <a:blip r:embed="rId2"/>
          <a:stretch/>
        </p:blipFill>
        <p:spPr>
          <a:xfrm>
            <a:off x="5410080" y="1855800"/>
            <a:ext cx="3395880" cy="2209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pc\AppData\Local\Temp\Temp1_h.zip\IMG-20160721-WA0021.jpg"/>
          <p:cNvPicPr/>
          <p:nvPr/>
        </p:nvPicPr>
        <p:blipFill>
          <a:blip r:embed="rId3"/>
          <a:stretch/>
        </p:blipFill>
        <p:spPr>
          <a:xfrm>
            <a:off x="525600" y="4354560"/>
            <a:ext cx="44924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28760" y="779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libri"/>
              </a:rPr>
              <a:t>Criteria for selecting villag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52440" y="155232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line with the feed the future expectations, target numbers to be achie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p production area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they producing the crops we are trying to prom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scale is this crop being produced-in terms of importance is it a priority crop (value-food, cash, fe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it a crop they are already producing (We do not want to introduce the crop as a new c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ibility- close to the ro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p potential in terms of market access/ li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ed the future site where our partners (NAFAKA) already have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6:50:55Z</dcterms:created>
  <dc:creator>ALUNA</dc:creator>
  <dc:description/>
  <dc:language>en-US</dc:language>
  <cp:lastModifiedBy>Jumbo, Bright (CIMMYT)</cp:lastModifiedBy>
  <dcterms:modified xsi:type="dcterms:W3CDTF">2017-07-03T06:42:39Z</dcterms:modified>
  <cp:revision>671</cp:revision>
  <dc:subject/>
  <dc:title>Slide 1</dc:title>
</cp:coreProperties>
</file>